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C733-DDB4-4A96-850D-4988AD514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6F7BE-C2D0-401E-A68E-E0EE092A1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80625-231C-4DD4-B240-D31094F61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F1975-AA37-4398-ACBC-997205387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D3776-CF08-4D14-8A49-862C1FDCC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5172E-7138-4E97-BE12-0EBA25B50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CFDFE-D20A-45B4-A181-85EB6F567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A3B01-B864-4869-9F81-1B2C8B76F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48E5-FE04-48BC-A00F-468608C27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FF4CF-D64A-4E13-9A39-C5EFC1DDB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C403-350E-4064-84C9-ABA643601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D8FDE-7B63-495E-8677-9E45FD3FC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4873-9E02-4193-B92A-F17CEB398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DB83-824E-4957-8872-3DBB089DFE1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RomaK</cp:lastModifiedBy>
  <dcterms:modified xsi:type="dcterms:W3CDTF">2015-09-04T09:35:26Z</dcterms:modified>
  <cp:revision>38</cp:revision>
  <dc:subject/>
  <dc:title>Slide 1</dc:title>
</cp:coreProperties>
</file>